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8E8-6992-4CB1-8E40-A5110AEF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204-C415-4A50-97FD-BB292E4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693-3EB6-4A96-9433-2096A683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174-D43F-4592-8881-0A240640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006E-65B4-48BD-8626-ED8DF36C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C08D-ABB7-4E47-B1ED-F7FA2B72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C5D3-2E65-469E-A922-E51AB9C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0761-FC49-41BA-A691-98868DC1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CF2-4F1C-407F-895C-64D081B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88E0-9078-4D6C-BCD0-7D759D5D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9E90-D8E1-4679-AFFE-199A6FD7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3D6-0524-4676-8C9B-F66A357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84F3-C2D8-45E0-BACB-16E850C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AB37-8F2C-4965-9192-8C2F3C5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130E-2558-4D6F-A6C9-A1CF409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31BA-2CFE-498F-A920-9307F7E8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A69A-D367-4B52-AD9E-49DE00EA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19F88-ED26-4198-B15B-213EEC03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B1783-A11B-436A-A00B-3F72E00D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F7A53-5504-4020-BF62-76E68D47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9F3AF-F140-42C5-B3AA-385BC453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BA3FE-A3DF-4812-9FE7-B42C66C4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105-86E4-4569-93F8-401D06BF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E5CDF-98F9-4A0D-A02A-6CBB989D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F42D3-4B21-4912-AF9F-B6C121D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6CD5C-D2A5-43A0-8E2C-049C090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8EDF9-9B2A-48EE-9221-A693437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95FF0-F156-4FF5-B2A2-C4923CE7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0D580-455B-4CBE-B5D4-A2B5EB1B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3A299-B75F-44FC-9678-C93716BE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3424-F243-4D1B-BBAE-998B7ECF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F17B7-50A4-496F-8842-CC366567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ABF4-EFA9-419C-BB42-442F2EDD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852-54A7-4981-9351-7C030A69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6CB6-CC0A-4C04-A71A-D47D5897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F558D-795B-4538-9DC1-9FF8619D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F3E15-096F-46AA-AB1D-EB260AE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B1133-FC5B-4DFF-B30B-D2D28283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F08D6-3506-434F-BB9B-1E4FE79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D6E2-A2B1-4135-92A8-165DE5A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8177-E2EB-4A4A-8D51-C1E49C5D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4802-54B7-471A-A536-81CDAC1F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B889-277D-489A-91BE-DF5863A1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9D34E-5EC7-437C-9B58-FF660D58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1E3-E8BC-43E3-B469-2A65E593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FC91-5894-4A21-A4F1-0353A905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7D16-7E17-4451-8555-7CB7495F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9CF0F-9560-466C-B522-98FB46C4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466B9-AD1C-4268-A7D6-00858118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816A-91BF-4A6F-A20D-2D5AFF46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92ACD-9C90-4D9B-B2E9-858CF45F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7774-4D73-40CA-BB3F-8531FBC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804C-2C20-4333-AF95-71B56D53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C5480-E56F-45D4-BF00-DF6DB2A2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ECDF-53E4-4550-A6CE-5C4B80AC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972-4423-4F49-9740-4F875918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61D9-6AAB-42DF-8B32-47EEAA15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69B66-180C-4EE0-A1A1-FC259D37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94B2C-8C87-401E-80D8-329E91CB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5749F-C550-4C38-8580-1ED56B4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F26F-C620-4646-A549-20E5EF5E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FD23A-DFD7-4962-A008-DAE3AD9E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EA35-2780-409F-A267-8482C66C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4EA1-26FC-4B4B-B9AA-86C3BA8E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F3DBE-8D53-44F0-B5A6-16B85DEB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434F7-3C7C-4DD4-9264-29B5DB1B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B28-9CE9-4811-84B7-1F1FC003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DEAE2-A3A1-4FF0-A3E3-140FDDD5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8774-8091-4CA9-B328-DA26875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88A3-D089-4A01-8468-FA3FEA5F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1F7-0A9A-40D5-9380-739C09E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4BC-948F-41A0-9644-31CA6B8B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E9F3-ABDE-473D-845F-30D63FA8A23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E1D7-CFFE-4781-808E-30041284997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3FF9-3783-469A-97ED-7B22CA883C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0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0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3359-FA6B-4DDB-8555-2DA398547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0BB2-7D74-4CA2-B2D1-D7C37E314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9A3D-2845-4761-AC73-9D4511431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nventors.about.com/library/weekly/aacarssteama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172200" y="6248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0" y="5029200"/>
            <a:ext cx="2286000" cy="162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 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/7/201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47920" y="304920"/>
            <a:ext cx="64767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Automobil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819520" y="4952880"/>
            <a:ext cx="3657600" cy="19051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00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Old Engraving depicting the 1771 crash of Nicolas Joseph Cugnot's steam powered car"/>
          <p:cNvPicPr/>
          <p:nvPr/>
        </p:nvPicPr>
        <p:blipFill>
          <a:blip r:embed="rId1"/>
          <a:stretch/>
        </p:blipFill>
        <p:spPr>
          <a:xfrm>
            <a:off x="0" y="152280"/>
            <a:ext cx="6019920" cy="40388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0" y="4267080"/>
            <a:ext cx="5562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out.com,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The history of the automobile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anuary 11, 2011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http://inventors.about.com/library/weekly/aacarssteama.ht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4267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is invention revolutionized the world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ion: Automobi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omobile was steam powe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used the automobile in the French army to haul artill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op speed was two and an half miles per hou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omobile had to stop every ten to fifteen minutes to build up ste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rst automobile was built in France Par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ventor: Nicolas Joseph Cugno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a French engineer and mechan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born in 1725 and died 18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crashed the very first automobile into a brick w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the first person to be in a car accid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hired some one to build the automobile with specific dir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25Z</dcterms:created>
  <dc:creator>install</dc:creator>
  <dc:description/>
  <dc:language>en-US</dc:language>
  <cp:lastModifiedBy>install</cp:lastModifiedBy>
  <dcterms:modified xsi:type="dcterms:W3CDTF">2011-01-14T16:53:20Z</dcterms:modified>
  <cp:revision>8</cp:revision>
  <dc:subject/>
  <dc:title>Slide 1</dc:title>
</cp:coreProperties>
</file>